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86492"/>
        <c:axId val="71469905"/>
      </c:barChart>
      <c:catAx>
        <c:axId val="74286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69905"/>
        <c:crosses val="autoZero"/>
        <c:auto val="1"/>
        <c:lblAlgn val="ctr"/>
        <c:lblOffset val="100"/>
        <c:noMultiLvlLbl val="0"/>
      </c:catAx>
      <c:valAx>
        <c:axId val="71469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86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A7A-9FBA-47BD-9BF4-B6CBBE42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841-1C38-4B4A-8B65-A707E376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0C5-8581-4D93-9682-6B95D7D4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14D-8AEB-4718-BB08-26EDF20F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FD6-F321-4EDA-BE1F-0F723FFE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7AA-6318-42F1-BBC6-C5B041FA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C39-EF26-4D6D-87E3-E47C06C1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3E9-E944-496A-95C9-EC3362C4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1F5-B523-4287-AF0F-4ACC1AA5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705-3FC9-4A4B-AB39-2ACFA6CA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401-CA55-43E8-BCD1-5E0B29FF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D738-E168-42E2-BB6A-0AFE1907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48CDC-7D04-41B5-9DB7-379BED7379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