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35302"/>
        <c:axId val="3079523"/>
      </c:barChart>
      <c:catAx>
        <c:axId val="23335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9523"/>
        <c:crosses val="autoZero"/>
        <c:auto val="1"/>
        <c:lblAlgn val="ctr"/>
        <c:lblOffset val="100"/>
        <c:noMultiLvlLbl val="0"/>
      </c:catAx>
      <c:valAx>
        <c:axId val="3079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35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664-DE7B-4038-A259-5ADB4285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86C-4F3A-489E-8F0C-201AB009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B3E-089A-418E-9B72-2AC84BBF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48B-375A-4C53-A513-F1C857E9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EB2-0333-4968-A73C-41FB24DC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B55-009B-4479-B9FC-E296C95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184-D196-46DF-876F-CED2950C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82C-239B-4AF9-B053-8C6D1C63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EAE-FBD2-450E-8399-AA1A4E81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691-8EFF-4CBA-B0FB-D315D163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5FE-58D9-4B23-8138-3274171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15B-C3D0-4A58-B967-63718001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64020-B29E-4802-92EC-806161EFA5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