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31621"/>
        <c:axId val="86053454"/>
      </c:barChart>
      <c:catAx>
        <c:axId val="66831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53454"/>
        <c:crosses val="autoZero"/>
        <c:auto val="1"/>
        <c:lblAlgn val="ctr"/>
        <c:lblOffset val="100"/>
        <c:noMultiLvlLbl val="0"/>
      </c:catAx>
      <c:valAx>
        <c:axId val="86053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31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88E-DEC0-4243-B496-37F173E9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BB1-84F7-49FC-8B4E-AEE1DCBC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0FC-A225-4B5D-A698-3ACAAB27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84D-CB6F-49C1-8666-9D99CDA5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817-C110-46A1-A78A-FFCA4212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238-5EB5-433C-ABAB-7C50D3E2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9D13-77E7-48D9-8E77-898A5159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284-83AA-43DA-B915-018CF9BA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C49-A22A-42EF-B836-65F0417F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9D8-A1E1-4072-A882-AA372611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D58-CBF6-4BE3-B152-578066F1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BE6-D4E0-4572-A5EA-F052E5C9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603BA-58C4-4243-AEC4-9EBC0101E8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