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11382"/>
        <c:axId val="94698804"/>
      </c:barChart>
      <c:catAx>
        <c:axId val="75011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98804"/>
        <c:crosses val="autoZero"/>
        <c:auto val="1"/>
        <c:lblAlgn val="ctr"/>
        <c:lblOffset val="100"/>
        <c:noMultiLvlLbl val="0"/>
      </c:catAx>
      <c:valAx>
        <c:axId val="94698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11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B477-769E-4AD2-897C-C4EEB7AA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301-DF0E-4EB8-82FB-BCA0AFAD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B44-5FF2-454C-BE9D-A5489C4C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8FA7-E06D-4645-A7E8-9A4BE7C5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E29-BDEE-4E57-8332-D67ACCA1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DBE9-E299-481F-9941-F96BA9D0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B8D-C905-4E1D-8DEB-9809884A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1F9-CA30-4196-B40B-A9536D19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BE5-9939-45DC-A02D-74262604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94F7-30AB-483C-96C7-36622674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94D-5EBE-4D3A-94D1-AAFD8FA2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56B-9F11-4725-83A3-A67494C6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6408F-BABD-42A4-9362-BD55AC6F7C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