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8178898"/>
        <c:axId val="63722023"/>
      </c:barChart>
      <c:catAx>
        <c:axId val="1817889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722023"/>
        <c:crosses val="autoZero"/>
        <c:auto val="1"/>
        <c:lblAlgn val="ctr"/>
        <c:lblOffset val="100"/>
        <c:noMultiLvlLbl val="0"/>
      </c:catAx>
      <c:valAx>
        <c:axId val="6372202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17889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84655-566F-4C53-A53C-AAB9B8248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84A44-A133-41A4-90C0-E60415A25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34B6B-7DB5-4D0F-97E9-6A1FA79F0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9F268-43B1-4773-A35D-3BDBAACA5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1FB99-297F-4675-A765-D6D5A9A31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9106B-AC83-425D-B104-A723DA826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7A731-A512-4B17-9497-5DD6BAEFC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A2671-CE2A-425E-AF71-46E3F42E1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8AA9E-B607-4969-8F8F-7A7C475F5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5A3C6-3107-44B5-9CE1-7CB1C314A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4FB03-13C9-428B-95F3-8D4E7357E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90E8E-181E-4C1D-AD49-197A0B0D5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94B350-3B14-4CF5-8BBF-2E0811728E2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