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30506"/>
        <c:axId val="40223190"/>
      </c:barChart>
      <c:catAx>
        <c:axId val="68930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3190"/>
        <c:crosses val="autoZero"/>
        <c:auto val="1"/>
        <c:lblAlgn val="ctr"/>
        <c:lblOffset val="100"/>
        <c:noMultiLvlLbl val="0"/>
      </c:catAx>
      <c:valAx>
        <c:axId val="40223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30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DB0-55ED-4F8C-A610-3059229D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9A5-FC70-4FB7-9533-44F056F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4C6-60EF-4C78-A5C2-B5A23284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B81-B672-4194-AD25-9D263C9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54B-6DFE-4134-8B29-BBC0EDD2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A5D-6B95-45D6-8EBF-9085404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4CB-22CB-4A50-A933-12BE48C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751-E730-4C98-85E8-390AFB6E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E59-F1AF-4941-A56C-751FD556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7BE-CA86-4377-87C7-7857B54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B56-01AA-4A8B-B6A5-16FB6CE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6DB-A3C2-427F-89D4-15DE5EC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113EC-FE45-4919-9FAF-377227AFB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