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124269"/>
        <c:axId val="85177001"/>
      </c:barChart>
      <c:catAx>
        <c:axId val="69124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77001"/>
        <c:crosses val="autoZero"/>
        <c:auto val="1"/>
        <c:lblAlgn val="ctr"/>
        <c:lblOffset val="100"/>
        <c:noMultiLvlLbl val="0"/>
      </c:catAx>
      <c:valAx>
        <c:axId val="85177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24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60AD-6E7A-4836-80CE-FE91976D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9EB-8F36-40F4-BA27-E2F10472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EF7-4A21-4E43-82F8-B8BE692DE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7024-CBDF-469B-A3FA-173C63FB4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A82D-C4EE-4F9F-B904-0D309C07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698-68DA-40B9-9BC9-55632A70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E4BD-80D1-4168-BBF2-D99B6DC3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F17E-02B1-4623-A591-D73A013C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C958-6A81-47A4-8D7E-DBB62279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71B5-D176-43D4-8C6C-110E4B75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F24-8717-46ED-80F8-BCA36D1B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F91-554F-4EE6-974D-63DCCAD8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BBEBEF-8781-4E55-AFC1-C684F01A87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