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19836"/>
        <c:axId val="49307228"/>
      </c:barChart>
      <c:catAx>
        <c:axId val="38119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7228"/>
        <c:crosses val="autoZero"/>
        <c:auto val="1"/>
        <c:lblAlgn val="ctr"/>
        <c:lblOffset val="100"/>
        <c:noMultiLvlLbl val="0"/>
      </c:catAx>
      <c:valAx>
        <c:axId val="49307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19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823-AC8B-4DE0-BEB7-13A1A704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FC6-7520-440F-8910-E643D8B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8D4-BE69-42FE-B755-D89223FE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0CA-49F2-4E12-87CE-DA7A428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8D4-1181-462A-9295-471F8A2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C04-C99A-4EEF-B0AE-4234FA9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76B-9442-402E-A03C-4A23E9C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7A2-4247-4B16-9862-BEF50D2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5A1-FDC2-4527-9A8E-E17BB02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2D1-E8CB-478E-AF64-BF3FE79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770-7507-46AC-BF27-C2C2D1D9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00B-87BF-4B34-A3D8-2B6C51B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4602E-6FD4-48CF-A832-A4C0C6541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