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29954"/>
        <c:axId val="15047794"/>
      </c:barChart>
      <c:catAx>
        <c:axId val="65529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47794"/>
        <c:crosses val="autoZero"/>
        <c:auto val="1"/>
        <c:lblAlgn val="ctr"/>
        <c:lblOffset val="100"/>
        <c:noMultiLvlLbl val="0"/>
      </c:catAx>
      <c:valAx>
        <c:axId val="15047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29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C66-C9B8-4EB7-90C4-2AD82397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D04-36E1-4F94-965D-B5DA103D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991-2941-473C-BC0E-23090CD8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968-4765-4141-9018-078D1EFB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62C-90D0-4BE5-B56C-1A80C19B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E78-0894-4DEF-B73E-A5BE3EC9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092-5A37-4EE9-8A96-114F19D9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12B-9605-4A72-9E21-737AE7F8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B6D-F8CB-4F9E-9AEB-97867D4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C7D-12A0-40A6-A074-03F498F1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47D-70FB-4CA6-9FD3-B5B7890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602-2859-4237-A9D4-CAF843C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29EA8-BD38-42B6-A0A7-DC18B2F51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