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736259"/>
        <c:axId val="71541704"/>
      </c:barChart>
      <c:catAx>
        <c:axId val="507362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41704"/>
        <c:crosses val="autoZero"/>
        <c:auto val="1"/>
        <c:lblAlgn val="ctr"/>
        <c:lblOffset val="100"/>
        <c:noMultiLvlLbl val="0"/>
      </c:catAx>
      <c:valAx>
        <c:axId val="715417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362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5E43-D71C-457C-AC6F-EA189394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02C3-BF63-460B-8F74-CAB63CA8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D7DE-0892-4C6F-847C-46D5EBF6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FB29-423B-4554-ADB5-33DFB63B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A2E-6CDB-4783-AC07-96DF3B01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57B-C620-4620-9489-60463116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E6CD-D6CA-4523-8FCE-A2A319CE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EACB-739A-441C-80E2-9867B4B2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73B-7A7D-4728-A55F-C15A8AB3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15B9-C25D-41EE-90CE-B6422950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D9C-9928-4BBD-9D99-FD57BA51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DA90-6DFA-4D86-A08F-0B4221BE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FC219-E415-4CB2-AF2D-47A8411475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