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21228"/>
        <c:axId val="37243570"/>
      </c:barChart>
      <c:catAx>
        <c:axId val="88021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3570"/>
        <c:crosses val="autoZero"/>
        <c:auto val="1"/>
        <c:lblAlgn val="ctr"/>
        <c:lblOffset val="100"/>
        <c:noMultiLvlLbl val="0"/>
      </c:catAx>
      <c:valAx>
        <c:axId val="37243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21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A2D-2660-44D8-AAE6-A2AC78D5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C56-7F33-4B25-AB2C-7111EDA7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067-F51C-4B4C-9B28-50E3F8FD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D7D-5EB2-4B7F-BF23-1D094B75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F61-627E-4E06-A2D4-417A74E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2D3-89C7-4A3C-AE9C-DC72678B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47B-8771-42EE-8B98-CCE5D3D0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7B5-8C22-42ED-8B70-8A4EBB1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78D-DA04-468E-996C-67A0CCA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03C-EE9E-406C-9D7C-9209B1C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755-656C-4711-942E-199E072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F5A-A4F9-4F6F-8E84-5115D08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2A48B-31E9-46CA-8095-F01F990E76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