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560846"/>
        <c:axId val="43081859"/>
      </c:barChart>
      <c:catAx>
        <c:axId val="355608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81859"/>
        <c:crosses val="autoZero"/>
        <c:auto val="1"/>
        <c:lblAlgn val="ctr"/>
        <c:lblOffset val="100"/>
        <c:noMultiLvlLbl val="0"/>
      </c:catAx>
      <c:valAx>
        <c:axId val="430818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608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E397-7479-48D9-A482-6AD9EB97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FA7B-5C33-4D8A-8981-EAF7E732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8D0C-086B-46BF-A620-9CF9DD50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CF27-4136-4195-9BC4-4DA72C44E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EFE5-6013-4A73-A14F-05EFEEB9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8B91-2F32-4FC3-AA46-8E03E2D3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09C2-BBF3-40FC-90D1-F7F66689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B52D-F298-4300-94E4-712110E9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9654-7D99-4F57-B005-C183254A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02EA-B5EA-468A-9DA6-2B8FA475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FCC6-7314-40E3-9681-5D1AFF00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D36C-3A4B-430D-8003-15B7D70F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ABFC9-B6EE-4140-A2B5-287D9E4D31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