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491052"/>
        <c:axId val="14077690"/>
      </c:barChart>
      <c:catAx>
        <c:axId val="2849105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077690"/>
        <c:crosses val="autoZero"/>
        <c:auto val="1"/>
        <c:lblAlgn val="ctr"/>
        <c:lblOffset val="100"/>
        <c:noMultiLvlLbl val="0"/>
      </c:catAx>
      <c:valAx>
        <c:axId val="1407769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49105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E3B6-BC1D-415B-9C88-75E5EA2AE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7E71-BEF7-4B38-93B5-28C72B8B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8D662-D3B0-4400-A7DE-8F7193D30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3DB2-C7CB-4838-84DD-B7FF537E2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1249-912A-46F4-BD06-D6780E81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7A03-5446-4460-961F-D2CA052A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2EF9-3563-45E4-B81B-2B991509E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0804-6826-447A-9FBD-6CFFC787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8F4E-55C4-411E-B0FF-0329EE73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C5A4-9E9A-4BDA-949F-69D99D0C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52B8-AFAA-4A1E-A56E-83B9BD7A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C8A7-CA9B-425C-B634-2DD63B50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461E29-9A91-4DED-B126-D8934440C6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