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57392"/>
        <c:axId val="85267713"/>
      </c:barChart>
      <c:catAx>
        <c:axId val="42657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67713"/>
        <c:crosses val="autoZero"/>
        <c:auto val="1"/>
        <c:lblAlgn val="ctr"/>
        <c:lblOffset val="100"/>
        <c:noMultiLvlLbl val="0"/>
      </c:catAx>
      <c:valAx>
        <c:axId val="85267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57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CD4-C40F-4BC9-AEDE-7C8AF2C1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636-6AE8-4B73-BAD7-12035731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0A2-B15D-4C25-BAC8-2B6D790C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741-FBC1-4E0F-B725-909F572D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697-AFD4-45A1-82BC-B3113A9E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7AE-B113-4BA0-8DA6-D9EDD6EA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E59-900D-4F90-A3DB-B7E17F4B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DBB-B664-4E49-ABC4-36A3FD93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5F2-334C-42E4-99BB-EA9B01D0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43D-7BEF-4124-9270-8BC8455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E32-0EB8-4FAA-9E93-82F6A6F1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927-2C9C-4451-85CB-0607346E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5C66B-D690-45F3-81B0-921493A728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