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93233"/>
        <c:axId val="45672454"/>
      </c:barChart>
      <c:catAx>
        <c:axId val="3549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2454"/>
        <c:crosses val="autoZero"/>
        <c:auto val="1"/>
        <c:lblAlgn val="ctr"/>
        <c:lblOffset val="100"/>
        <c:noMultiLvlLbl val="0"/>
      </c:catAx>
      <c:valAx>
        <c:axId val="45672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9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CEA-EF2E-4151-825E-8E6F0A4A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793-519C-486B-99B5-87EB163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88D-BFF4-4E8C-984C-C15E51F4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A7E-FC88-4BA4-AAEB-960F81E5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3FB-587B-4367-BD24-0C814D6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D5A-3E53-45FC-AFBB-6417A80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1FD-3112-4567-8953-A2E4F3E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823-3935-4B43-8527-9A8AA76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F58-2C71-46D0-9278-8818F2E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336-1A75-42E7-B20E-9C23E43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8FD-2757-40D8-BD09-E363997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5BF-EE5D-4631-9B07-2C8AB60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D086-386F-409D-9E10-8F73B6897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