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70344"/>
        <c:axId val="81069588"/>
      </c:barChart>
      <c:catAx>
        <c:axId val="90670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69588"/>
        <c:crosses val="autoZero"/>
        <c:auto val="1"/>
        <c:lblAlgn val="ctr"/>
        <c:lblOffset val="100"/>
        <c:noMultiLvlLbl val="0"/>
      </c:catAx>
      <c:valAx>
        <c:axId val="81069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70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1BB-AE01-4467-9731-329EC6F0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BC8-9F5A-4899-B4E0-827701B7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304-800D-4761-87EF-7511EE24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B17-A303-4B01-80D0-EAC6FEAE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650-A3AD-401E-A9E5-FD03FC6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D7B-7FDA-4203-8FD8-991B0F6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70E-A424-4418-9683-88AB49E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66A-D0C8-4C05-BED8-CC765CB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65B-2DF1-4834-A920-5AAD0D60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05A-6420-4776-809A-95EF715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5FF-7438-478E-B42C-6E484BEB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A04-C0F5-46C0-9685-10CE3E6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1F26-20A3-487C-A118-224E687160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