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14788"/>
        <c:axId val="54270571"/>
      </c:barChart>
      <c:catAx>
        <c:axId val="73414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70571"/>
        <c:crosses val="autoZero"/>
        <c:auto val="1"/>
        <c:lblAlgn val="ctr"/>
        <c:lblOffset val="100"/>
        <c:noMultiLvlLbl val="0"/>
      </c:catAx>
      <c:valAx>
        <c:axId val="54270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14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60F-B350-41A6-84D3-4F5B2236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856-78D7-49E2-825B-EBAB01D0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7CE-4832-4DCA-A862-4138E7F0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BF1-C8D1-4562-87B4-22611DBC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347-C4E0-4C9D-B085-DA6383CD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CED-459B-4A09-9526-A7F41665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D22-5BAF-4627-B5A9-0AF318DE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64B-6644-4B2A-987B-22743249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A18-5EF1-4500-AB85-D0225D79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6AB-DA04-47B5-BA4C-A2E38554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706-9908-4BC6-9256-2DBC540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7A6-7715-4D35-AB35-9BEFA33F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8A5ED-6083-4415-A973-F066491B5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