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71180"/>
        <c:axId val="50741756"/>
      </c:barChart>
      <c:catAx>
        <c:axId val="40871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1756"/>
        <c:crosses val="autoZero"/>
        <c:auto val="1"/>
        <c:lblAlgn val="ctr"/>
        <c:lblOffset val="100"/>
        <c:noMultiLvlLbl val="0"/>
      </c:catAx>
      <c:valAx>
        <c:axId val="50741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1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38B-E293-4AEF-B802-A8597567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B26-EBBD-4D19-91C4-208CFD66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7A6-5766-4599-A51A-A43E0F5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E00-9825-4B8E-869E-C5F971E7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FC4-C96D-4F41-A848-11783125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7DA-0D77-45A6-A30C-873B517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2CF-9DD6-48F5-AA52-1F5B189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A82-858C-471B-AEF8-98715CA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C56-C65C-40B3-BB41-0EDB4FE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292-D669-44C0-B002-20265DA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D41-6F0C-45D8-B1F6-3912415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57B-83CD-4478-877B-6C632B7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A3DF6-D4F6-4BC5-AFF0-25AE4C4B5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