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12303"/>
        <c:axId val="35924524"/>
      </c:barChart>
      <c:catAx>
        <c:axId val="87312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4524"/>
        <c:crosses val="autoZero"/>
        <c:auto val="1"/>
        <c:lblAlgn val="ctr"/>
        <c:lblOffset val="100"/>
        <c:noMultiLvlLbl val="0"/>
      </c:catAx>
      <c:valAx>
        <c:axId val="35924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12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69F-3A85-41BF-AEB0-FA609BF4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6F4-6939-4BA8-A3F7-EAE89A0E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D6D-833C-4C78-AC16-63A6AF1E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5BB-ECFF-42CB-A34F-87DC7987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555-C202-44FB-9705-EEC4765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AA3-3FBF-45DE-9314-65A4EB90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C96-6CA6-453C-B927-38E8F174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0E2-6D59-41C4-90BE-6DDC385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B1-D6D0-4559-A5B3-4E29512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9A6-BFC5-411C-90E9-2CEE71E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002-38B2-4964-A685-05839A43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5BF-577F-436E-BE9D-471C412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B95A6-8617-4AF8-AFCE-EA5D88204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