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741253"/>
        <c:axId val="9483948"/>
      </c:barChart>
      <c:catAx>
        <c:axId val="817412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3948"/>
        <c:crosses val="autoZero"/>
        <c:auto val="1"/>
        <c:lblAlgn val="ctr"/>
        <c:lblOffset val="100"/>
        <c:noMultiLvlLbl val="0"/>
      </c:catAx>
      <c:valAx>
        <c:axId val="94839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412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EC53-81FA-4DDB-8B1F-99AD41E0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673A-C80B-4445-841E-C1357CB4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3261-27D0-46F7-97F1-53A3818E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4A55-34DF-49F0-96AD-F52E0CDA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ECC1-CBA9-4BF8-ACAA-EA8B9E00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A7EB-FC51-40AA-BB5B-03290086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B379-839B-4DFE-9FDA-5F628B18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7C4D-901A-4EDC-843C-F1F0D5B3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B859-8477-4C5A-830C-31635397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69A1-3110-4029-A049-0A4955A9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2A77-F3D5-467B-A56D-22821E13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726-E760-4F01-85FB-485D6C32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D57D8-78B2-498E-8080-CBEEBFA2BF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