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68513"/>
        <c:axId val="58861035"/>
      </c:barChart>
      <c:catAx>
        <c:axId val="24768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61035"/>
        <c:crosses val="autoZero"/>
        <c:auto val="1"/>
        <c:lblAlgn val="ctr"/>
        <c:lblOffset val="100"/>
        <c:noMultiLvlLbl val="0"/>
      </c:catAx>
      <c:valAx>
        <c:axId val="58861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68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2E5-C149-42FF-9D2B-E5B16CEA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E2A-43A3-4BFA-ABEA-B8726041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EB3-CDBF-4A14-8E44-E91FC1C8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1C1-D374-4ADF-A4FB-744A8800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EC6-143E-415B-B3C8-65872777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025-6E34-4A2B-A4A4-680319A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048-9A90-40D1-A46B-0C5A0602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823-3E04-4A58-83F4-593FB41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1A6-0E30-4E34-9C2C-B7B15E86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DCE-CD2E-4ADB-9DB9-79ED7F66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7E9-0E07-4640-8BD2-4F2A74E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92F-3EE8-4387-8311-A84A618F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A4619-F8FB-4752-ACF7-3C571092B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