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006839"/>
        <c:axId val="10222632"/>
      </c:barChart>
      <c:catAx>
        <c:axId val="160068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22632"/>
        <c:crosses val="autoZero"/>
        <c:auto val="1"/>
        <c:lblAlgn val="ctr"/>
        <c:lblOffset val="100"/>
        <c:noMultiLvlLbl val="0"/>
      </c:catAx>
      <c:valAx>
        <c:axId val="102226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0068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2198-7D23-4DB3-84EE-0A7E91299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E166-1FE5-448D-81DA-8810EFAC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AD2E-621C-4A3B-BBB5-1D3612DBE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D2E6-9330-4DDA-B399-38ECD9A74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E8BD-C6C2-4F26-8990-39B34FAF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C36E-A7D8-4092-AC8B-3F7FEB2B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7D88-D5B1-4C54-A7AC-20185FAF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E665-6B44-4A00-899F-2BAEA14D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FFA2-3BB1-4F08-B9C1-4A37DC50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3673-5EB4-493B-9785-9E87D9C9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0023-518A-406E-A4BD-1D15914C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05A8-76DF-4343-9AC1-F8C3C098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4A702-70D7-4FE3-A79F-1FA32FE78C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