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91547"/>
        <c:axId val="57217555"/>
      </c:barChart>
      <c:catAx>
        <c:axId val="74391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17555"/>
        <c:crosses val="autoZero"/>
        <c:auto val="1"/>
        <c:lblAlgn val="ctr"/>
        <c:lblOffset val="100"/>
        <c:noMultiLvlLbl val="0"/>
      </c:catAx>
      <c:valAx>
        <c:axId val="57217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91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44F-DB91-4608-8031-EB0B044E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B673-0021-40E4-B7F8-CEE7D494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354-118F-4512-8633-AD13A6A3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971-2750-410A-9093-E6F6E711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380-F35F-4D26-BF3D-E1AD682C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0B1-F55C-43E6-BDEF-931173E7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044-059D-4E27-AD5A-8995CBCA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118-C1F6-4EA1-86B4-75A23559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43F-A23D-4C69-A6C5-1AC851D4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EB2-EBD9-46F2-85DC-4643D625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961-D195-4AA3-8CF4-D4CDA720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BBA8-1D22-4229-B382-FBB9706D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D0A5A-3A7D-4F8B-8F66-65046B9493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