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789227"/>
        <c:axId val="61370082"/>
      </c:barChart>
      <c:catAx>
        <c:axId val="227892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370082"/>
        <c:crosses val="autoZero"/>
        <c:auto val="1"/>
        <c:lblAlgn val="ctr"/>
        <c:lblOffset val="100"/>
        <c:noMultiLvlLbl val="0"/>
      </c:catAx>
      <c:valAx>
        <c:axId val="613700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892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7EE7-7AE8-46F8-A17A-494340E7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69BC-3F6A-4AB3-95CD-D88950E1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235A-BD67-4196-87E8-CDD744E75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E2D8-5F80-460F-A29D-39B47727C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BB41-352F-4E47-8112-E13524E4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70F8-D3A1-4589-BB8A-EBB95A09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F57B-CE4F-466A-A663-DCD8EF65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3D6C-BE0E-486F-8190-3E040DCB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8DFB-6919-48F9-8AB6-E25CDE6C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B80B-90F9-43E2-A996-C73830D3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9EE4-E65D-463B-B2E9-3A3551A6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B480-8577-4B23-97D2-9EFAA175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B9D35-B8F9-41F8-A46D-2E14FD6861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