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135603"/>
        <c:axId val="13759332"/>
      </c:barChart>
      <c:catAx>
        <c:axId val="371356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59332"/>
        <c:crosses val="autoZero"/>
        <c:auto val="1"/>
        <c:lblAlgn val="ctr"/>
        <c:lblOffset val="100"/>
        <c:noMultiLvlLbl val="0"/>
      </c:catAx>
      <c:valAx>
        <c:axId val="137593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356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6E18-4299-45D5-90BB-3C7B61F3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C6A4-56E3-44FA-A91C-5B225532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5723-9D6A-4E21-93EB-5A9077D4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9706-ACE3-4603-8D64-6F52ECDB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7569-C7D9-4BB0-9EB1-87A72213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1B76-30E4-406F-B138-FC4124A1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3D42-DA2E-4124-9915-17CDE09C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4520-8E9B-488F-AF5F-1EEB296B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C695-45AC-429C-BE53-CEA016D5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1630-9710-429B-8E6F-B58597F6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E6A0-3698-4E84-925A-3B39DEE5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ACB0-EFEF-402E-93EC-29D4FA92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52BDB-5D5A-4B57-8A43-681194883E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