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99922"/>
        <c:axId val="62836818"/>
      </c:barChart>
      <c:catAx>
        <c:axId val="63699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36818"/>
        <c:crosses val="autoZero"/>
        <c:auto val="1"/>
        <c:lblAlgn val="ctr"/>
        <c:lblOffset val="100"/>
        <c:noMultiLvlLbl val="0"/>
      </c:catAx>
      <c:valAx>
        <c:axId val="62836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9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4B0-2A47-4526-90BB-C0C683C7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0E1-3910-4ABE-B6E4-2C50475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43A-5DEC-4ED9-A1DB-EDBA1469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4AE-973F-4F9A-BCDE-4BAB1DB2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813-5AFA-4DCD-8D75-87F82967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ABE-9B91-45B5-B158-C0ED159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3DA-AD2E-45A5-B644-B94C694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263-4D09-4655-9908-923527D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5C9-317E-4314-A541-89DAAD38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A7C-81C5-473B-ABCF-4CB7447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7F7-BBF0-49C1-A290-743AE8B5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5D1-58C1-4466-B967-FCA4870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71033-EF9B-4CDA-B128-E4DD44B73E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