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424441"/>
        <c:axId val="84587542"/>
      </c:barChart>
      <c:catAx>
        <c:axId val="294244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87542"/>
        <c:crosses val="autoZero"/>
        <c:auto val="1"/>
        <c:lblAlgn val="ctr"/>
        <c:lblOffset val="100"/>
        <c:noMultiLvlLbl val="0"/>
      </c:catAx>
      <c:valAx>
        <c:axId val="845875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244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80AB-09B5-477A-8381-40A66780B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8D18-CF1C-442C-A517-60CD92E5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1EC0-5337-4D26-AB65-88DA275C2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4F18-5F55-4D7E-9B8E-34AD7C896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737C-3BDC-43FD-B404-E41FD6C3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A1F7-EB26-4223-8800-966F2BDC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62C9-3DB3-477A-8EDE-5D4EA20D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798A-97D7-4E0D-A9A4-8C7AA5F6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0DE4-50E2-4571-B9E2-6FDD620E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0E8B-F74F-4DB1-9450-51088DAE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5052-DE95-43A4-97A8-9EC807D3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C821-75D6-4B42-83E7-9EB7441B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DA97A-E8E3-4AA4-B07B-E41800227F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