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06166"/>
        <c:axId val="40266829"/>
      </c:barChart>
      <c:catAx>
        <c:axId val="94506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66829"/>
        <c:crosses val="autoZero"/>
        <c:auto val="1"/>
        <c:lblAlgn val="ctr"/>
        <c:lblOffset val="100"/>
        <c:noMultiLvlLbl val="0"/>
      </c:catAx>
      <c:valAx>
        <c:axId val="40266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06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99F-ADE0-4D44-8CC3-CFA062A3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EA1-A567-4125-B48F-E797506E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96B-6CCF-45AB-8165-1C2E6A8C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5EF-51C8-4C2F-9277-403BCEF8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EDD-4263-46DA-B41B-359FFD8C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274-D572-410F-BE06-00E93BC5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E0F-ED77-4F66-8E69-AC4A5B02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578-C8C6-4D5E-9896-4183C255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727-9A5F-4D89-84D9-FF1B2EE7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B43-958C-4571-9354-1AA8392D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ABE-D59B-4F8E-82D5-FD82FA3B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FB3-6B55-4B34-A963-9B6FCA10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53D2F-D150-4F09-93AE-64B3539469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