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6000178"/>
        <c:axId val="83853018"/>
      </c:barChart>
      <c:catAx>
        <c:axId val="7600017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853018"/>
        <c:crosses val="autoZero"/>
        <c:auto val="1"/>
        <c:lblAlgn val="ctr"/>
        <c:lblOffset val="100"/>
        <c:noMultiLvlLbl val="0"/>
      </c:catAx>
      <c:valAx>
        <c:axId val="8385301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00017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1DDA-575C-4660-8FAC-0107AC447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88E0-CD60-4C55-A302-539DAA8B2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365C-B8C2-4173-882C-FFF5A3737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A7C8-887F-47D8-9F97-EA5E95638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AA06-F8EE-447A-83F4-7E09CC03E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ED7D-87BF-4D1D-87AF-D54FB3BF0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B7C9-9300-4653-A721-1D786E57A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17A0-13AE-4C61-8891-9A92B0696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8F7F-F95C-442D-A0AA-A731D3AD3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B07A-138E-4637-A0C4-919762170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DF49-29AE-46BA-9A77-06B6A3E18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6811-4B70-4246-B3FC-36D26DFEF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94DEC6-B663-42D6-BF30-ACA3F81DA66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