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51385"/>
        <c:axId val="61674842"/>
      </c:barChart>
      <c:catAx>
        <c:axId val="68251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74842"/>
        <c:crosses val="autoZero"/>
        <c:auto val="1"/>
        <c:lblAlgn val="ctr"/>
        <c:lblOffset val="100"/>
        <c:noMultiLvlLbl val="0"/>
      </c:catAx>
      <c:valAx>
        <c:axId val="61674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51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B1A-625C-480B-B29E-59895C78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A693-DAAE-4CA8-8945-0CCD8406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D06-F9D8-4742-9D62-98251E5F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169-929C-4D46-AFB3-F6D74DF1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94E-00C6-4E45-80F1-E580C224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9C5-B5F0-41DF-A587-3F4AA256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9B29-F4CF-44B0-A8D3-882EE248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519-1A44-47D7-BCAF-A42F648D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33E-6A2F-4AFC-9F40-EE51A117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2B7-7427-4C70-A9F4-86678B3F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3A4-9129-4F88-BBAC-A507C06D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85C-5E31-4424-8251-658EE4FF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BB53A-881F-4F36-818B-58AB028465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