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048895"/>
        <c:axId val="16322643"/>
      </c:barChart>
      <c:catAx>
        <c:axId val="69048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22643"/>
        <c:crosses val="autoZero"/>
        <c:auto val="1"/>
        <c:lblAlgn val="ctr"/>
        <c:lblOffset val="100"/>
        <c:noMultiLvlLbl val="0"/>
      </c:catAx>
      <c:valAx>
        <c:axId val="163226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48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DC12-E8D1-41D9-819B-13924695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DDD6-839A-4EB8-8155-8D2CDD89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B6B6-0343-4D5D-9056-E14A1E7F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992-D8A3-46F5-AFD8-AE54D8C0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E642-3429-4969-9A68-931CAE84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EDFD-49F4-44C3-A2F8-09CCBD5A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BE9-3009-4FB3-99B1-3CFE57BE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773C-9508-4D93-890B-5893B0E7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3DE-FC5C-4F02-BBFF-024FC871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DDB2-2888-40EE-ADE7-127A19E7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DC3-9A34-4D4F-B03A-2FDEA52E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658-1734-4940-870A-13267FAB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059B6-AF30-4A50-A6D6-4EDB03CD29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