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74887"/>
        <c:axId val="18046901"/>
      </c:barChart>
      <c:catAx>
        <c:axId val="74274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6901"/>
        <c:crosses val="autoZero"/>
        <c:auto val="1"/>
        <c:lblAlgn val="ctr"/>
        <c:lblOffset val="100"/>
        <c:noMultiLvlLbl val="0"/>
      </c:catAx>
      <c:valAx>
        <c:axId val="18046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74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C3B-5F21-4E20-A630-D985F9EE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FD5-BD39-4BDB-9019-31D0031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2EB-D50E-4E67-971E-9E99D083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32E-591A-468A-A256-5DC0037D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4AD-7FE5-4D25-BC39-F61369A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EC9-1F98-4B28-B345-73206FFC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78B-8293-4F52-A9AC-B216EB61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285-2DE6-4EB3-A68A-BA0EE16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B59-D2B2-4F94-894F-6E53473E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166-C2A5-4459-B5C6-96215F0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D0B-D815-482E-93AE-E7D012A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2C0-0B69-4C47-B603-ABDE2A7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563D0-44DD-484F-8863-D6D348CC9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