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89648"/>
        <c:axId val="87936039"/>
      </c:barChart>
      <c:catAx>
        <c:axId val="10789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36039"/>
        <c:crosses val="autoZero"/>
        <c:auto val="1"/>
        <c:lblAlgn val="ctr"/>
        <c:lblOffset val="100"/>
        <c:noMultiLvlLbl val="0"/>
      </c:catAx>
      <c:valAx>
        <c:axId val="87936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89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D8F-7DC2-43A0-88C7-C73A049E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55A-EC32-4E6D-AC32-8196E13C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144-ABEC-42A3-A465-9E63F5BD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E22-997C-42B1-8759-FA0A83C4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C0B-E02C-414E-951D-24090502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F87-A23F-489F-A812-8E146299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8BF-AFCB-45AC-A39E-1E6C6EA9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AD2-EAE9-4744-8B49-DF271B67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9C9-A3F9-4495-A0F7-2337ECFD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A82-3315-443D-BFE9-1B306C6E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4E47-3A1E-4009-A164-B671AB10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53B-DC1A-4330-B76F-29CD3D2A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C98F4-3083-49E3-8F04-530836E17B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