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14230"/>
        <c:axId val="73422619"/>
      </c:barChart>
      <c:catAx>
        <c:axId val="41514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22619"/>
        <c:crosses val="autoZero"/>
        <c:auto val="1"/>
        <c:lblAlgn val="ctr"/>
        <c:lblOffset val="100"/>
        <c:noMultiLvlLbl val="0"/>
      </c:catAx>
      <c:valAx>
        <c:axId val="73422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14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350-A535-49D0-9FDB-4FE15530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D52-6EA0-4A27-A567-9F10CF28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999-A7F0-4ED9-B51C-C4EF50E9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9DE-857D-4993-8375-3678DDF5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BFF-61F7-4614-A55F-C98DC138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2D3-9B06-4280-8057-47E3ED5A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65C-9106-4D40-B9A7-B74B5DBA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58D-9208-49C9-A70B-1735036F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2B2-F611-4AED-81C8-FB9391C5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248-D3B0-40CE-BADD-935E4A46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233-0044-44BF-9E95-84F99279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39B-B6F3-43BF-8CFC-36A7439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740A4-1310-4556-898F-3E42830721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