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422254"/>
        <c:axId val="1126568"/>
      </c:barChart>
      <c:catAx>
        <c:axId val="504222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6568"/>
        <c:crosses val="autoZero"/>
        <c:auto val="1"/>
        <c:lblAlgn val="ctr"/>
        <c:lblOffset val="100"/>
        <c:noMultiLvlLbl val="0"/>
      </c:catAx>
      <c:valAx>
        <c:axId val="11265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222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E0A8-DAFD-4236-BC39-68CBCC97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B545-A07C-44E1-8368-149B5D0E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89D1-F071-49A5-AA9D-AB60EFED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006-F681-426E-ABB1-CCBAB35A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8222-5344-48AC-B0E6-05C33190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3D82-47F6-4491-AE3D-5296C0C1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725C-2509-4549-AD4E-BAE64FD5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2945-5926-4BA6-9BB0-986C1DAC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C8B7-54AA-43BB-9587-172A251A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6E21-E438-4FAD-A537-CF5FCFA0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88EC-2D8E-4DA6-A09E-8F32050E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FE83-6EBC-410A-A059-3C685FA9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CA902-98E8-4AA9-8EEC-17E69D8521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