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934733"/>
        <c:axId val="68013833"/>
      </c:barChart>
      <c:catAx>
        <c:axId val="459347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013833"/>
        <c:crosses val="autoZero"/>
        <c:auto val="1"/>
        <c:lblAlgn val="ctr"/>
        <c:lblOffset val="100"/>
        <c:noMultiLvlLbl val="0"/>
      </c:catAx>
      <c:valAx>
        <c:axId val="680138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9347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0F75-E300-4A1B-9A4C-1CC149054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AFE5-8F87-4708-AD41-FBF1418C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A469-4DA5-4331-91E4-5BF3C0160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67B0-9BBF-4627-8651-68B1633E9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EB82-B65E-460C-82CC-EC647A96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0D05-1C24-4BF5-9A16-60256D4B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5D7E-6B71-4300-AC2D-939B1003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ECAA-28C6-40F1-A4B7-EF99105C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26CD-EB86-4FFA-951D-6F633C25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2BE0-03B4-47A7-9ABB-7BD46544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B2E1-05D8-4C4D-A41C-411230CA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FB58-FDB9-43A4-A146-F3B17E1F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D2CA56-D0B9-4909-9427-42A3B132A8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