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68529"/>
        <c:axId val="5167082"/>
      </c:barChart>
      <c:catAx>
        <c:axId val="25268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7082"/>
        <c:crosses val="autoZero"/>
        <c:auto val="1"/>
        <c:lblAlgn val="ctr"/>
        <c:lblOffset val="100"/>
        <c:noMultiLvlLbl val="0"/>
      </c:catAx>
      <c:valAx>
        <c:axId val="5167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68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EE1-0E3E-4CCC-9C4C-E999ADD8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502-1680-4795-93E7-49B967B1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A8D-EB0B-4E02-972D-E0968465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FAD-1757-4BB2-9327-B7D6FF63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A69-18C6-41C0-A729-8B59EB08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E48-3748-4145-8F6A-B022C452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22F-E4B7-4345-A799-03410681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10C8-0DA9-43FB-9F11-7BCBB952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560-F3DD-43B8-A0DF-5178EBAD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97B-7F2B-4167-9223-2801ED08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56AF-940C-4EAA-AB4D-E6F157EC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FC3-25B5-4E6A-916B-04DFAD3B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60318-571A-4B68-A514-84D9E07513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