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880141"/>
        <c:axId val="2828352"/>
      </c:barChart>
      <c:catAx>
        <c:axId val="59880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8352"/>
        <c:crosses val="autoZero"/>
        <c:auto val="1"/>
        <c:lblAlgn val="ctr"/>
        <c:lblOffset val="100"/>
        <c:noMultiLvlLbl val="0"/>
      </c:catAx>
      <c:valAx>
        <c:axId val="2828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80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B4A5-323D-4705-8954-D937D229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7A13-56D4-4317-BA4A-ABE75A3B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BEC-33C5-4AB5-8F89-DE262A5C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6C12-570E-435C-9FE7-8E381B54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FBD-BEA5-40F4-BAC9-68C43625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EA94-08D4-459F-9C7D-2C73D5D7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FCA5-43B9-41FA-BE1D-B775A8E0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6AB-A743-42BA-8E2B-38695834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2FC-65F2-4106-A497-C0378F38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FAC-2515-42B1-A1A6-DA972292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B11-9F0D-4089-937F-58228EFA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2C1-0066-46E8-BDE3-037457A7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E6450-92FF-4754-A324-D45F30E559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