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43016"/>
        <c:axId val="4582920"/>
      </c:barChart>
      <c:catAx>
        <c:axId val="256430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82920"/>
        <c:crosses val="autoZero"/>
        <c:auto val="1"/>
        <c:lblAlgn val="ctr"/>
        <c:lblOffset val="100"/>
        <c:noMultiLvlLbl val="0"/>
      </c:catAx>
      <c:valAx>
        <c:axId val="4582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430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350D-0369-4D73-B468-9A4B1902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9770-3681-4741-BE9C-17B396978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5473A-520F-4E45-83EB-440D1BF14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DB44-0D4A-4ECB-9015-A8840DF43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98F2-08C8-49FF-80E7-F18A27A0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A6DD-B4B6-4B5D-89FF-BE75FE68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490-2F48-4922-9CF9-3EC4F52B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14A4-D39F-4906-A7D2-F62CE8D27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D89E-3094-4A46-8E4E-781B536BC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5FE-2BF2-4B20-BF51-DF8690A08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79DB-9A06-4008-9CAB-2695F55A7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75C-70BC-4BAE-A235-F098140A1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2D3DBF-14D9-4DCB-8353-F22C4441B4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