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21545"/>
        <c:axId val="45635267"/>
      </c:barChart>
      <c:catAx>
        <c:axId val="19021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35267"/>
        <c:crosses val="autoZero"/>
        <c:auto val="1"/>
        <c:lblAlgn val="ctr"/>
        <c:lblOffset val="100"/>
        <c:noMultiLvlLbl val="0"/>
      </c:catAx>
      <c:valAx>
        <c:axId val="45635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21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E0A-ED1B-44B2-BF5B-80D962DA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797-2619-4D7E-8E7D-53413E28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DC5-8A4E-4D98-BAAB-5D617780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FCF-231B-423B-82F9-4B862BFF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F13-6BD7-4295-BFCB-011D2F54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F5A-EC75-4AAB-ADE5-0B456830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BA3-12C8-43A8-929D-E993ABD7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E76-263B-426C-97BB-555DC336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18D-7088-4513-90CA-21044EFD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E14-ABE0-4716-A15F-F959DEB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BFC-C7BA-487E-AA95-32DCA3E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2F1-4E00-4380-86AC-2169200F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EA70E-BAC4-4E20-8CBA-CC1A8F7DF5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