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81434"/>
        <c:axId val="49471886"/>
      </c:barChart>
      <c:catAx>
        <c:axId val="196814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71886"/>
        <c:crosses val="autoZero"/>
        <c:auto val="1"/>
        <c:lblAlgn val="ctr"/>
        <c:lblOffset val="100"/>
        <c:noMultiLvlLbl val="0"/>
      </c:catAx>
      <c:valAx>
        <c:axId val="494718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814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ECB-8CEB-4693-BD12-17E9DB9D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E79D-30FE-4EB0-A087-06202376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4384-6FBF-432C-A732-628F2F36B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3806-C154-4252-BFCE-3CCEF052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840C-FECF-4704-ADF4-80F4A8E2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22D4-DD5D-4761-A61D-F86A8F42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3B5F-FD89-4284-BAEC-C6FA652A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AB4-9491-4E19-B60F-4E44B31B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2DB0-240A-4D2F-A2F6-EA396000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A353-298E-4DA5-BEC3-5F4D1D8A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5687-CA29-4575-A1E0-7004B55E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B2A7-5CF6-4F9B-9CEC-5550324C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EFC12-C690-42FC-BFF8-65CA8F45CA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