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653203"/>
        <c:axId val="19928996"/>
      </c:barChart>
      <c:catAx>
        <c:axId val="756532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28996"/>
        <c:crosses val="autoZero"/>
        <c:auto val="1"/>
        <c:lblAlgn val="ctr"/>
        <c:lblOffset val="100"/>
        <c:noMultiLvlLbl val="0"/>
      </c:catAx>
      <c:valAx>
        <c:axId val="19928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532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BBDC-FCD9-47CB-A536-FDA1B5A6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D58-774E-4FC2-982D-3D1DD8CB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3CD0-7864-46B9-AE27-6DE0B0E2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7F47-899B-4A98-A2D3-E1B0C7B3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099A-DC62-4DD0-983B-1242F558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508-DC45-432E-934A-4B9B4318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5167-1A20-4ED1-9BFF-865C7C0E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C9A3-23D3-4A86-BF21-DB8F53A2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4D93-97BC-4730-A6BB-74E3372F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E58D-C059-4AD9-A561-125EB65F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43AC-E971-480D-B4D9-D271214A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E8B6-FC57-46EE-8B8E-3D14EA2F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E260F-FA8A-4B01-8CA0-C79C84C643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