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879628"/>
        <c:axId val="32935351"/>
      </c:barChart>
      <c:catAx>
        <c:axId val="678796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35351"/>
        <c:crosses val="autoZero"/>
        <c:auto val="1"/>
        <c:lblAlgn val="ctr"/>
        <c:lblOffset val="100"/>
        <c:noMultiLvlLbl val="0"/>
      </c:catAx>
      <c:valAx>
        <c:axId val="329353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79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F475-A878-4DC4-B14D-94798348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ABEF-9BB4-45E7-9821-D02176EB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8CF-867D-4B4B-8F7D-D673CCD7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09A-D942-4425-9779-DB497F0A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F2F-71B2-46DC-84A0-87CC3196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6C23-1A2B-49EC-9467-0D03619F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4C35-7B3C-4518-8830-2EF84F08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59E-9132-4837-B88F-2BEEBC08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2B77-9A01-44A0-BB2C-43009B80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8BB7-2C49-4E07-A87A-B3C879D9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58CA-3782-43D5-96FF-49EA3E50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8310-F8F9-4387-A748-4C88E6BF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A2D2F-0FD3-49B3-A08F-380AFAEBD2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