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34084"/>
        <c:axId val="92929986"/>
      </c:barChart>
      <c:catAx>
        <c:axId val="83234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9986"/>
        <c:crosses val="autoZero"/>
        <c:auto val="1"/>
        <c:lblAlgn val="ctr"/>
        <c:lblOffset val="100"/>
        <c:noMultiLvlLbl val="0"/>
      </c:catAx>
      <c:valAx>
        <c:axId val="92929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34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FB9-794A-42D2-B136-1058D3BA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7E7-6586-40D7-80AC-791C187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D60-9621-437F-8926-144A0073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03E-A9AD-4385-B4D1-58F8CC75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80-0EB1-4544-9527-7DF224A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BE4-3A3D-4624-A633-C5195F1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DEE-CB08-4624-9DB0-469E7AB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EEE-1266-4C92-B686-1D9B8680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804-F109-41D1-B6B5-6E220D1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291-48CC-45E6-9D18-D893C01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2CB-1072-4EDA-810F-A6B5921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072-0D1F-4051-82BF-BFA28A5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A825-BCB8-4B6B-ABDF-02E3D135B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