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51661"/>
        <c:axId val="4159780"/>
      </c:barChart>
      <c:catAx>
        <c:axId val="67151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780"/>
        <c:crosses val="autoZero"/>
        <c:auto val="1"/>
        <c:lblAlgn val="ctr"/>
        <c:lblOffset val="100"/>
        <c:noMultiLvlLbl val="0"/>
      </c:catAx>
      <c:valAx>
        <c:axId val="4159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51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230-3CF3-4B35-9870-2574BFCF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9C5-A714-445D-8AC0-CF7B132B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C3C-FBA3-415E-A6E0-61AB68AB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F5D-97CB-4535-AE3D-C800E895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A43-CD1E-4A02-BD29-115DB38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0C4-7915-416B-B2AA-576A389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4EC-6CC8-4296-BD5E-C835C68E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90-7CE6-4429-986A-AA518154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FE9-B4A9-44C4-9E3E-984645FA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E8C-A0C1-4B3C-BA0E-CDEBF25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FFE-9502-49F8-982B-09F3DA0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44A-A43F-4720-8C6E-97CE1A0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1B564-8FB7-4354-9C77-CD90FEE2D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