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92943"/>
        <c:axId val="52524389"/>
      </c:barChart>
      <c:catAx>
        <c:axId val="93792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24389"/>
        <c:crosses val="autoZero"/>
        <c:auto val="1"/>
        <c:lblAlgn val="ctr"/>
        <c:lblOffset val="100"/>
        <c:noMultiLvlLbl val="0"/>
      </c:catAx>
      <c:valAx>
        <c:axId val="52524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92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EB7-EA93-4E30-9148-9283F031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B94-6E17-4838-B80A-CC044230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6CB-56E1-44C4-9507-9E233EEA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149-1A0C-42E4-B047-48CABF97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A4A-453D-43A2-87C5-A77BDD08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0A9-1243-45FD-893A-70A906EB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A6B-1ECC-4347-9B12-2A2CD2EE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45F-43CC-498E-B00E-7B87CCEC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358-A96C-4A70-8E54-A0629D6B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D48-6B33-4835-877B-50283E49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FAC-6E6D-4127-899F-19B7036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060-229F-451A-A4C5-2765E1D3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71728-B4AC-4F59-BF66-AD5DF0A0A4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