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101173"/>
        <c:axId val="96951113"/>
      </c:barChart>
      <c:catAx>
        <c:axId val="861011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51113"/>
        <c:crosses val="autoZero"/>
        <c:auto val="1"/>
        <c:lblAlgn val="ctr"/>
        <c:lblOffset val="100"/>
        <c:noMultiLvlLbl val="0"/>
      </c:catAx>
      <c:valAx>
        <c:axId val="969511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011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E021-D9C1-48C2-B84E-B61FC846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8423-4CC2-4173-BD26-3D55D93C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DA54-0916-43F0-BE04-EBEF3EC5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CDFC-3619-45F7-A2C8-8DAFFC35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F1F2-70E9-4157-B1BD-32E3B23B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A8B9-AC01-43B7-8549-2E0DC44E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F624-60CD-4043-B533-B7CE4DA0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2D17-CD3A-41F2-AA75-3EFB7702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2794-086F-4EA2-8145-67FDCBC8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38CB-219A-4843-BE2B-0EDEB778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C1AE-23E8-4B91-B8CF-7F5DE8E5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A9B1-8466-4BC1-9FAE-5906F768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5E601-BDDD-4BF6-A496-4CF3EE349A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