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473"/>
        <c:axId val="4789333"/>
      </c:barChart>
      <c:catAx>
        <c:axId val="999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9333"/>
        <c:crosses val="autoZero"/>
        <c:auto val="1"/>
        <c:lblAlgn val="ctr"/>
        <c:lblOffset val="100"/>
        <c:noMultiLvlLbl val="0"/>
      </c:catAx>
      <c:valAx>
        <c:axId val="4789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596-6FBA-4088-A0DE-45FF3425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E3A-D693-40E8-BA61-82FED416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10C-72E7-4A86-8990-770DC5B2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30E-1E9C-4EF6-9F2C-3ADD28C7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27C-438B-4FBD-9B30-8DEA92B0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7FE-EECA-4554-8F82-306FD51E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BCB-5E39-4E0F-A635-65CB0476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7B2-E8DF-400F-987D-FA7E4EE1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F07-AF1C-42D3-BB53-2E10F8BD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5C5-5A14-4C78-8E77-E92F882B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6B7-87D5-4440-A898-789A1B1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CB8-A6A7-44DC-AA38-EE67B910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50585-9E64-444C-A231-3277A9A4EA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