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34348"/>
        <c:axId val="33147158"/>
      </c:barChart>
      <c:catAx>
        <c:axId val="94634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47158"/>
        <c:crosses val="autoZero"/>
        <c:auto val="1"/>
        <c:lblAlgn val="ctr"/>
        <c:lblOffset val="100"/>
        <c:noMultiLvlLbl val="0"/>
      </c:catAx>
      <c:valAx>
        <c:axId val="33147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34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DEC-2A59-4FC2-80C9-6DB7D0DD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64E-49FF-41F5-BBCC-A3612701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540-D5C8-4C72-AD2C-0CDAD658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575-210B-4BDA-87D8-C94B70C0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2B2-3336-49BD-9238-750D979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D6D-5FEF-4AD6-AB6E-0342EA5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698-067A-451D-BA73-E86D0756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E03-18F4-4E55-B131-62A4465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AF3-259A-4467-A462-D8371B8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E5F-E3A8-479D-B5A2-025DC44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E1A-2F52-4679-9C2B-0373393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884-1115-472A-A0BC-13A9A8C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D73C3-1F82-4653-A401-23FA2691DB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