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109235"/>
        <c:axId val="10013704"/>
      </c:barChart>
      <c:catAx>
        <c:axId val="45109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13704"/>
        <c:crosses val="autoZero"/>
        <c:auto val="1"/>
        <c:lblAlgn val="ctr"/>
        <c:lblOffset val="100"/>
        <c:noMultiLvlLbl val="0"/>
      </c:catAx>
      <c:valAx>
        <c:axId val="100137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09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205-F279-4AC2-ADC7-A5B98384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CDAE-8FB2-4960-B403-1D9C0160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0E1-A55A-4DD5-8087-677F45F7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70F-95F4-4DFB-811B-EFB4AE6B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45B2-6011-4223-A802-74526720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FC6-2AA2-41DB-8076-59B73336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7A83-B1E8-4AB2-8F31-D251378B9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4472-7806-4725-9F45-F7F355A6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DCF-2902-40CB-BDF8-B8C745C0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DE07-7EB4-4F81-A317-04113E8D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BF9-DD62-47B1-9A32-8ECA6A90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FDC-D56A-41F4-B886-F97FEBE6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D2FFC-5F93-4E20-8EBF-5FF5C80F7C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